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wmf" ContentType="image/x-wmf"/>
  <Override PartName="/ppt/media/image27.jpeg" ContentType="image/jpeg"/>
  <Override PartName="/ppt/media/applause.wav" ContentType="audio/x-wav"/>
  <Override PartName="/ppt/media/image21.jpeg" ContentType="image/jpeg"/>
  <Override PartName="/ppt/media/chimes.wav" ContentType="audio/x-wav"/>
  <Override PartName="/ppt/media/image19.jpeg" ContentType="image/jpeg"/>
  <Override PartName="/ppt/media/image14.wmf" ContentType="image/x-wmf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7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3.png" ContentType="image/png"/>
  <Override PartName="/ppt/media/camera.wav" ContentType="audio/x-wav"/>
  <Override PartName="/ppt/media/image9.jpeg" ContentType="image/jpeg"/>
  <Override PartName="/ppt/media/image30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2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88E0-B775-45ED-9245-FB54B0CDC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71F-A4DB-4797-8EB4-19C2CB55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9A3-3350-4769-B9D9-77B87CE6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271-A83F-44DA-8F39-68491C3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B0DA7-CF62-43DD-BAA0-39BA1C4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A449D-B753-4810-B73A-C9E4689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A0721-736A-4F16-A2C2-3649CA16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D8A3D-BB02-467E-A636-5B5E669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8B1F4-F98F-4F03-95DF-D5D0644B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960C1-58C6-4423-9702-933DA79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DF829-48D7-4B59-8A5A-A5A290B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9EC39-C7FD-4866-A71C-66DA260B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E22CE-FB08-45FC-9EF9-72CEE0C2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DE2CF-ECDB-4F59-B44D-132928E0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5A1-6B9F-42FA-B0BE-CC671677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FD734-A3F9-4ECE-A6A4-19C49F4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12047-B62D-4F35-B138-08A00FC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C6AD9-75F1-4D48-9D39-99C4FEB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A9125-374D-41CA-A1A5-42C41FCD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0BAC3-4928-4D6B-B6F6-4EC05B7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B8400-0231-44AD-9F12-4F98C05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BB8A7-56AF-48BF-9EC7-8A185FB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216D6-77DE-480B-B9AA-1DEC53A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34DBC-8823-4AE5-B806-24F0A47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5E286-DBFC-4D11-82C8-137DA990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677-C065-49D7-A286-FBABE0DC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51A83-954A-484A-9036-29AD24FF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7B90B-C2D5-4278-962D-C0ADC982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35643-90BA-48D3-9C1C-51FB2DE5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3A398-29F4-432F-89F9-7E609313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3777-8683-458D-B153-3AD2BCC1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387E0-3B35-4525-B440-80130C34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E3F8-C60F-43F5-8AB5-1CBC43C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15AC1-AA5A-409C-A7F8-293DD01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2309-3C2C-4B4C-A6AD-56FB4BE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FCEF4-0E5A-47B3-BA4A-4934948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BA59-A3AD-4307-A9AD-26FA73AA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A3D96-631E-47D9-9FF0-086E23D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EC27-4438-4309-A292-53309E19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35A5D-52D7-4F62-A915-8D496F00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B4ECD-7E59-42F0-AC8C-E8AE5AF1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6FF38-64C6-43B8-AB48-162544E0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FC110-48C7-4FE0-920F-EB76BA5B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F1DFD-82F6-4345-87BA-680614D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D3C97-9258-4C44-B7AF-758D9ED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FDA9-79D7-4549-865A-5FCF8DE2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53FC1-05D3-4BA9-873C-35FB767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15DF-EB52-42F6-9344-B2838A0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A35B1-4D55-4FC9-8EA9-9CBC281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DF006-0775-4433-826A-C352C07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332DF-0012-4012-9C45-344050FF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B4F03-FD8D-4994-8CB5-DDE979C1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E31DC-DE29-4114-B8F1-686E060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C7DC0-CEE3-4887-871F-6BD37913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D1B8B-14CB-4FCF-9857-97BA272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861AF-E546-4A1A-AD6F-107CFE1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F6569-6563-463E-BC4F-AF2ABE2C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0B6DA-00A0-4C23-A2FC-5859FFF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1F1-53A5-4FC7-80B2-1907C37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B0842-D855-4997-B653-62CDDD1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8510C-C75F-40CC-982D-81ADB75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BE909-FB09-4877-9CCB-7B6DC1C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0B32C-E775-4D1E-BC51-C9582CA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F5A09-FB8A-446F-B751-D2A6477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4A9CE-F9A9-4727-8966-389B23AB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F34AD-369D-4979-95BA-7E7F8B96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A125-D8B1-4EA9-BF04-00E9FA6D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759D-BABA-4572-AAE6-B78915B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F3BD-7A6F-4595-9B5F-A83230CD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F2E0-CD8E-47EE-AAFF-C363FF6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78B-4718-48AB-86C8-E1494F7B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F18-600E-434A-BA0B-8B69007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51D-B0E2-43EF-A9CF-50E3894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9BC7-2A3A-42CA-8378-7BF5A86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870F-41B6-4C7D-9D59-B8DA2738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380C-0F9D-471B-BAC6-0FCDF7DB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9677-DFDD-4995-BBC0-389993E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B26C-4062-4B6A-9F55-2D8C66B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9688-EC67-4DDE-B3CB-FE934991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88BD-0D35-449B-BD2D-381BFE93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F1E2-34E6-42A8-B87D-27EC03C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104-6D08-497C-AE21-948FAF6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6303-ED29-4B6D-B0EF-C93F07E5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D3D1-6A17-48FB-BD0A-FBB6DBF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AEC8-A051-476A-B34A-C8F4B97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95D0-AB19-41DD-ABDC-90470F7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8469-CE12-460B-95C1-C558F0AB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BB59-7626-4868-A129-142C3F20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8518-A053-4027-B910-B2B4DF2B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9EC3-D45C-40A6-A03B-868F8D93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F5C2-B404-43A6-91EF-69E04732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D7F0-DE69-42B0-A0AB-CDC8898B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6CE-8C1A-4603-AD92-D468A29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41AD-8054-459D-A5B6-8362121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C5E0B-EEA7-4A7A-BFEB-6C06870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CC82-5FE6-4921-B49C-39C1DB2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49CF-BE5E-4D4D-8F29-610C36C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1CA8-1EA7-44E6-8CF6-DC00564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C49F-7ACF-4909-BAB2-1724C19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DFD3-E9A9-42B8-B065-FC1D35F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7F0E-3466-433A-ACBE-9886206E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581F-3F5D-4F58-B24C-F745F0E1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1423-5D31-45A7-9CC3-9D5E6F14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D8A-0B56-4419-9DE2-70516AC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C080-A7E2-49FD-B4E2-859BB3BD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CE533-9BB3-42B2-AE3F-34A46F6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E7B62-3905-47B0-A691-DDF2EA6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3B9F-0A9B-4278-A8F3-4A943F6A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8E74-7BD7-4660-AC2E-42A5042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9229-5FDB-4144-83B5-2CCA3F5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E6E9-DC96-4FB2-A2C5-50BBCAE6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5CBE-F487-4512-AD39-60EF823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BC6A-05E9-4DEB-A535-6AEBF797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6DB2-84DF-4AFC-A2A0-DA0D3313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DC0-2804-40A9-AA52-416BC8A4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9199-9A4A-4F55-8E8C-2B3EE2D0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A0A8-D197-44ED-A8D8-AE5D728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2C03-5A8F-44AD-8857-547A9315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CD7C-08AC-4045-8A0A-CED69FF8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ABCC-CD65-44D5-8502-F2B0A018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29E4-93A9-4524-892F-69A1217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1D74-89DB-47F3-BF1B-1D0752C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BAD31-109F-4EA3-B763-08FDF38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3B4F-0FEC-4DFB-A923-25FFB722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DBFA-021B-42BB-9E33-F6A25AF7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ECF-BDA4-4705-B65D-EC7B63A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42241-656E-4541-AF6C-655DAAFB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42A1-EDBF-40BA-A0BD-CD38F7C2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A7E1-C915-4B21-8DAA-7199339F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200B-4062-4594-ABB6-A37A4831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832DA-FF8B-41A0-A469-38214A9A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F209C-98F0-4D8E-A45A-599A308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B117E-5E2F-4EDB-B619-EC5C89D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0DB9-E3FA-42A5-B84D-C1E936D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0B57-7E5C-41BD-9117-4F82806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4B39-A75B-4689-A3A0-BD7AB3E7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57E-E52B-48AC-AC93-E8BBE1F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C3B27-ED26-4D73-A631-1D945DF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9F66-5428-4BB3-9D8A-B413B74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CBF0-F587-457A-B4D6-746C4FD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3EC8-AB8E-4BE7-8784-3FCE562B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509D-7F11-4402-ABEE-7A8ACD7F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D28B-99C8-4C5A-892C-2C80459E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DDB7-6FB0-483B-B403-5CC72EA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179F2-8099-4A03-88A6-A947A49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B280E-85E9-49F5-9004-160E4B75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4B183-0C4C-4E5A-8708-139898F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BEC-6736-48C5-9FD7-C086109E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CD2D3-33E5-42E8-A7FC-D6B633B6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6DBF-53DC-4BD7-A757-47E07D7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C3202-7645-45BC-9D28-B00BAD3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3DEB-F92A-4AB7-9409-6F55D84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039A6-A073-4953-8A8A-BEB368AE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853B-AC54-4D05-A6B8-4B22B65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57D75-3107-4971-A587-F6CBF9AB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1EEA9-73E5-489F-88D1-1308FAA0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C8130-663E-4623-98F9-DEABD21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FB4B9-C267-47CF-9E2D-3D8AECB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7AC6-260D-4A9E-B1E8-C017DF75F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474-5012-4162-84F4-227DE60E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4865-E672-4CA3-BA27-4DEE1989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042-7834-4A7B-9837-87ABD86B0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3FB-1EC4-4CDC-A186-092A3792B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2AC6-6EC5-48C8-9DE9-CAF4ABD3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6A8-7B40-4132-B63B-A41FF256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AFF1-E230-4A78-B002-F3FD4457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8956-751E-4B3B-8E07-E9B68C23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004-0EB9-4BCE-8B62-DE4EEABC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F3F-DBAB-43A2-BE94-D4F43B89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6F32-2D49-4B57-98A5-AF886A826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703-3477-4E65-A58A-2E2BB66B3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"/><Relationship Id="rId3" Type="http://schemas.openxmlformats.org/officeDocument/2006/relationships/image" Target="../media/image2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562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Medium"/>
              </a:rPr>
              <a:t>If the Book Fits, Read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ood Fi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25780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arbara A. Smith Carolina Forest Elementary  Gra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0" descr="MCj04391420000[1]"/>
          <p:cNvPicPr/>
          <p:nvPr/>
        </p:nvPicPr>
        <p:blipFill>
          <a:blip r:embed="rId1"/>
          <a:stretch/>
        </p:blipFill>
        <p:spPr>
          <a:xfrm>
            <a:off x="380880" y="528480"/>
            <a:ext cx="8229600" cy="632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4" name="Picture 13" descr="MPj04394490000[1]"/>
          <p:cNvPicPr/>
          <p:nvPr/>
        </p:nvPicPr>
        <p:blipFill>
          <a:blip r:embed="rId2"/>
          <a:stretch/>
        </p:blipFill>
        <p:spPr>
          <a:xfrm>
            <a:off x="6095880" y="1371600"/>
            <a:ext cx="18781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5" name="TextBox 6"/>
          <p:cNvSpPr/>
          <p:nvPr/>
        </p:nvSpPr>
        <p:spPr>
          <a:xfrm>
            <a:off x="10666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il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0113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the purpose for your book. To write a report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urtles would you rea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905120" y="403848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turtles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257800" y="2666880"/>
            <a:ext cx="2438280" cy="3329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Franklin Goes to Schoo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666880"/>
            <a:ext cx="2971800" cy="3260880"/>
          </a:xfrm>
          <a:prstGeom prst="rect">
            <a:avLst/>
          </a:prstGeom>
          <a:ln w="0">
            <a:noFill/>
          </a:ln>
        </p:spPr>
      </p:pic>
      <p:pic>
        <p:nvPicPr>
          <p:cNvPr id="581" name="j0214098.wav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MPj03142960000[1]">
            <a:hlinkClick r:id="rId1" action="ppaction://hlinksldjump"/>
          </p:cNvPr>
          <p:cNvPicPr/>
          <p:nvPr/>
        </p:nvPicPr>
        <p:blipFill>
          <a:blip r:embed="rId2">
            <a:alphaModFix amt="67000"/>
          </a:blip>
          <a:stretch/>
        </p:blipFill>
        <p:spPr>
          <a:xfrm>
            <a:off x="1066680" y="990720"/>
            <a:ext cx="3657600" cy="1834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3" name="Picture 6" descr="MPPH03447I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3657600" cy="246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4" name="Text Box 7"/>
          <p:cNvSpPr/>
          <p:nvPr/>
        </p:nvSpPr>
        <p:spPr>
          <a:xfrm>
            <a:off x="5334120" y="762120"/>
            <a:ext cx="3276360" cy="2043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re RIGHT! You want to read about REAL turt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have these sh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clo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Pj0404886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39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7" name="Picture 11" descr="MCj04401990000[1]"/>
          <p:cNvPicPr/>
          <p:nvPr/>
        </p:nvPicPr>
        <p:blipFill>
          <a:blip r:embed="rId2"/>
          <a:stretch/>
        </p:blipFill>
        <p:spPr>
          <a:xfrm>
            <a:off x="5029200" y="2971800"/>
            <a:ext cx="3116160" cy="2084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! Because you have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MPj04023300000[1]"/>
          <p:cNvPicPr/>
          <p:nvPr/>
        </p:nvPicPr>
        <p:blipFill>
          <a:blip r:embed="rId1"/>
          <a:stretch/>
        </p:blipFill>
        <p:spPr>
          <a:xfrm>
            <a:off x="5867280" y="1981080"/>
            <a:ext cx="20811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0" name="Picture 6" descr="MPj04285240000[1]"/>
          <p:cNvPicPr/>
          <p:nvPr/>
        </p:nvPicPr>
        <p:blipFill>
          <a:blip r:embed="rId2"/>
          <a:stretch/>
        </p:blipFill>
        <p:spPr>
          <a:xfrm>
            <a:off x="533520" y="2438280"/>
            <a:ext cx="3890880" cy="25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1" name="Text Box 8"/>
          <p:cNvSpPr/>
          <p:nvPr/>
        </p:nvSpPr>
        <p:spPr>
          <a:xfrm>
            <a:off x="1219320" y="5334120"/>
            <a:ext cx="26668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791320" y="5334120"/>
            <a:ext cx="22096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books that you a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00400" cy="46479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s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MPj04394930000[1]"/>
          <p:cNvPicPr/>
          <p:nvPr/>
        </p:nvPicPr>
        <p:blipFill>
          <a:blip r:embed="rId1"/>
          <a:stretch/>
        </p:blipFill>
        <p:spPr>
          <a:xfrm>
            <a:off x="4343400" y="2895480"/>
            <a:ext cx="388620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Picture 17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2" descr=""/>
          <p:cNvPicPr/>
          <p:nvPr/>
        </p:nvPicPr>
        <p:blipFill>
          <a:blip r:embed="rId3"/>
          <a:stretch/>
        </p:blipFill>
        <p:spPr>
          <a:xfrm>
            <a:off x="25909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6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7" descr=""/>
          <p:cNvPicPr/>
          <p:nvPr/>
        </p:nvPicPr>
        <p:blipFill>
          <a:blip r:embed="rId5"/>
          <a:stretch/>
        </p:blipFill>
        <p:spPr>
          <a:xfrm>
            <a:off x="25909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MSj00822000000[1].mid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MSj00750610000[1].wav" descr=""/>
          <p:cNvPicPr/>
          <p:nvPr/>
        </p:nvPicPr>
        <p:blipFill>
          <a:blip r:embed="rId7"/>
          <a:stretch/>
        </p:blipFill>
        <p:spPr>
          <a:xfrm>
            <a:off x="26668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  <p:sndAc>
      <p:stSnd>
        <p:snd r:embed="rId8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8955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609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407" fill="hold"/>
                                        <p:tgtEl>
                                          <p:spTgt spid="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761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5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at you understand what you ar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astic hyoid, combined with the fibroelastic tissue on top of the big cats' undivided vocal folds, acts like a slide trombone, enabling the big cats to ro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MCj04344030000[1]"/>
          <p:cNvPicPr/>
          <p:nvPr/>
        </p:nvPicPr>
        <p:blipFill>
          <a:blip r:embed="rId1"/>
          <a:stretch/>
        </p:blipFill>
        <p:spPr>
          <a:xfrm>
            <a:off x="3809880" y="4267080"/>
            <a:ext cx="1198800" cy="16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at you know m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ers are the largest wild ca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weigh up to 72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MPj04364520000[1]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26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PICK  a Good-Fi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os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pose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 want to rea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est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prehend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understand what I am reading?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most of the words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ppy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5" descr="MPj04276860000[1]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38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Barbara\AppData\Local\Microsoft\Windows\Temporary Internet Files\Content.IE5\E33YICPL\MCj04343890000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838080"/>
            <a:ext cx="3353040" cy="5284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3276720" y="1219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ever wear a pair of shoes that were too large 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Pj04317940000[1]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1460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562720" cy="10969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too sm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Pj04003050000[1]"/>
          <p:cNvPicPr/>
          <p:nvPr/>
        </p:nvPicPr>
        <p:blipFill>
          <a:blip r:embed="rId1"/>
          <a:stretch/>
        </p:blipFill>
        <p:spPr>
          <a:xfrm>
            <a:off x="3200400" y="2286000"/>
            <a:ext cx="2495520" cy="3121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32448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w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se shoe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MPj04048860000[1]"/>
          <p:cNvPicPr/>
          <p:nvPr/>
        </p:nvPicPr>
        <p:blipFill>
          <a:blip r:embed="rId1"/>
          <a:stretch/>
        </p:blipFill>
        <p:spPr>
          <a:xfrm>
            <a:off x="2057400" y="2481120"/>
            <a:ext cx="4876920" cy="348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2" name="MSj00822000000[1].mid" descr=""/>
          <p:cNvPicPr/>
          <p:nvPr/>
        </p:nvPicPr>
        <p:blipFill>
          <a:blip r:embed="rId2"/>
          <a:stretch/>
        </p:blipFill>
        <p:spPr>
          <a:xfrm>
            <a:off x="7467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55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990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lay foot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86000" y="1523880"/>
          <a:ext cx="4724280" cy="460224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16" descr="MPj04305860000[1]"/>
          <p:cNvPicPr/>
          <p:nvPr/>
        </p:nvPicPr>
        <p:blipFill>
          <a:blip r:embed="rId1"/>
          <a:stretch/>
        </p:blipFill>
        <p:spPr>
          <a:xfrm>
            <a:off x="2514600" y="16765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556" name="MSSN00641A0000[1].wav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3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563868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you w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se sh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MPj04049220000[1]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4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9" name="MSj03885380000[1]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75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6172200" cy="13255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lk the bea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MPj04019860000[1]"/>
          <p:cNvPicPr/>
          <p:nvPr/>
        </p:nvPicPr>
        <p:blipFill>
          <a:blip r:embed="rId1"/>
          <a:stretch/>
        </p:blipFill>
        <p:spPr>
          <a:xfrm>
            <a:off x="2057400" y="2057400"/>
            <a:ext cx="5257800" cy="3503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2" name="Picture 14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6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? Then why read a book that doesn’t f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MPj04395080000[1]"/>
          <p:cNvPicPr/>
          <p:nvPr/>
        </p:nvPicPr>
        <p:blipFill>
          <a:blip r:embed="rId1"/>
          <a:stretch/>
        </p:blipFill>
        <p:spPr>
          <a:xfrm>
            <a:off x="3429000" y="2514600"/>
            <a:ext cx="289260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shoe has a purpos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match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MCj04400440000[1]"/>
          <p:cNvPicPr/>
          <p:nvPr/>
        </p:nvPicPr>
        <p:blipFill>
          <a:blip r:embed="rId1"/>
          <a:stretch/>
        </p:blipFill>
        <p:spPr>
          <a:xfrm>
            <a:off x="762120" y="2590920"/>
            <a:ext cx="1218960" cy="1047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MPj0400652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1339560" cy="1676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MCj04370410000[1]"/>
          <p:cNvPicPr/>
          <p:nvPr/>
        </p:nvPicPr>
        <p:blipFill>
          <a:blip r:embed="rId3"/>
          <a:stretch/>
        </p:blipFill>
        <p:spPr>
          <a:xfrm>
            <a:off x="7086600" y="26668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MCj02352030000[1]"/>
          <p:cNvPicPr/>
          <p:nvPr/>
        </p:nvPicPr>
        <p:blipFill>
          <a:blip r:embed="rId4"/>
          <a:stretch/>
        </p:blipFill>
        <p:spPr>
          <a:xfrm>
            <a:off x="4800600" y="2666880"/>
            <a:ext cx="1827360" cy="1268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j0285698"/>
          <p:cNvPicPr/>
          <p:nvPr/>
        </p:nvPicPr>
        <p:blipFill>
          <a:blip r:embed="rId5"/>
          <a:stretch/>
        </p:blipFill>
        <p:spPr>
          <a:xfrm>
            <a:off x="7391520" y="4419720"/>
            <a:ext cx="1207800" cy="1290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MCj02857280000[1]"/>
          <p:cNvPicPr/>
          <p:nvPr/>
        </p:nvPicPr>
        <p:blipFill>
          <a:blip r:embed="rId6"/>
          <a:stretch/>
        </p:blipFill>
        <p:spPr>
          <a:xfrm>
            <a:off x="2666880" y="4724280"/>
            <a:ext cx="15940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MPj04388480000[1]"/>
          <p:cNvPicPr/>
          <p:nvPr/>
        </p:nvPicPr>
        <p:blipFill>
          <a:blip r:embed="rId7"/>
          <a:stretch/>
        </p:blipFill>
        <p:spPr>
          <a:xfrm>
            <a:off x="5029200" y="4648320"/>
            <a:ext cx="2057400" cy="1226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MCj04125520000[1]"/>
          <p:cNvPicPr/>
          <p:nvPr/>
        </p:nvPicPr>
        <p:blipFill>
          <a:blip r:embed="rId8"/>
          <a:stretch/>
        </p:blipFill>
        <p:spPr>
          <a:xfrm>
            <a:off x="2666880" y="2590920"/>
            <a:ext cx="14018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8:54Z</dcterms:created>
  <dc:creator>Barbara</dc:creator>
  <dc:description/>
  <dc:language>en-US</dc:language>
  <cp:lastModifiedBy>Gail</cp:lastModifiedBy>
  <dcterms:modified xsi:type="dcterms:W3CDTF">2009-03-24T02:31:23Z</dcterms:modified>
  <cp:revision>119</cp:revision>
  <dc:subject/>
  <dc:title>If the Book Fits,  Wear It!</dc:title>
</cp:coreProperties>
</file>